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364-45F6-4758-A345-4B892411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BDB2-31B8-449D-BF55-7332B608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79E2-5C35-4122-99C7-E59FD3FA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303-26EF-4531-9BFF-7D015E7C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7D89-2625-48FC-AC77-A676D2EA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D5BF-0CE6-43CB-817B-8E99D5CB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C636-0423-4754-9D54-DB545C19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46B2-6621-4A37-9770-6AB66836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7A2D-28B3-44CE-93AB-516E506B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3AFE-C0E1-4B67-A5E8-666DF9F3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09FD-E2E1-406A-84E0-3D69414A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632-2BD3-4D54-A225-FA0E91AF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4042-25DC-433A-94CB-7EC3E5AC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2882-2411-4397-8E41-FD2DA451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FE68-131B-4135-8C98-9DA4B26D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540E-2DCC-4717-8D58-2FD7E655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B9DD-E099-44CE-980E-7CC1DEDD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338-414C-43EB-A3E8-6D1CA705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941-DA41-4327-BA12-5CB58BC6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378A-8197-4470-AE26-1656B7B1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C822-E4E2-46E7-93CA-6C3906BB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AF9-5058-453A-A5CB-1A482784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5A1-2026-44BC-970A-494A3598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F89-9217-4098-92E8-63456D87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A462-1B2C-441B-8AB2-ED459B594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304F-4520-4E83-BD6F-5738CF9532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Stock Investing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5400" spc="-1" strike="noStrike">
                <a:solidFill>
                  <a:srgbClr val="ffff66"/>
                </a:solidFill>
                <a:latin typeface="Arial Black"/>
              </a:rPr>
              <a:t>Basics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Terminology Related to Stock Inv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Market Capitalization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s is the total number of stocks issued by a corporation multiplied by the current market price of the st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 are going to discuss three types of market capital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rge-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id-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mall-C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Large-Cap Stock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stocks of corporations that have market capitalizations in excess of 10 billion doll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xamples of large-cap stocks include: Exxon-Mobil (426 Billion), Microsoft (227 Billion), Wal-Mart (197 Billion), and General Electric (228 Bill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Mid-Cap Stock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stocks of corporations that have market capitalizations of between 2 billion and 10 billion doll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xamples of mid-cap stocks include: Family Dollar (6 billion) and VeriSign (6 bill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Small-Cap Stock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stocks of corporations that have market capitalizations of between 300 million and 2 billion dolla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xamples of small-cap stocks include: The Cheesecake Factory (1.8 billion) and Ann Taylor Stores (1.4 billion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Stock Exchange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ock exchange is where shares of stock are bought and so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xamples of stock exchanges include the New York Stock Exchange (NYSE) and the NASDAQ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also sometimes referred to as securities ex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NYSE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w York Stock Exchange is one of the world’s largest and most well known exchan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3000 corporations are listed on the NY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YSE uses a combination of human floor traders and computerized tra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YSE is open between 9:30 A.M.-4:00 P.M. (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f the world’s largest and most well known companies are traded on the NY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examples include: Coca-Cola, Wal-Mart, Exxon-Mobil, General Electric, and McDonald’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NASDAQ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SDAQ stands for the National Association of Securities Dealers Automated Quotation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completely computerized stock ex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4000 corporations are listed on the NASDAQ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SDAQ was started in 197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high tech companies are listed and traded on the NASDAQ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examples include: Microsoft, Intel, Dell, Amazon.com, Google, and App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Brokerage Firm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7720" y="2590920"/>
            <a:ext cx="80074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rokerage firm is a company that conducts securities trading (the buying and selling of stocks, bonds, mutual funds, etc…), investment research, analysis, and advisory services for its cli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e are going to talk about the differences between full-service and discount brokerage fi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5791320" y="76320"/>
            <a:ext cx="3200400" cy="251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Full-Service Brokerage Firm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560" y="1599840"/>
            <a:ext cx="9109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-service brokerage firms provide the m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ized services (research, advice, retirement planning, tax tips, etc…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lso charge the highest fees and commiss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3124080" y="3657600"/>
            <a:ext cx="2057400" cy="30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Full-Service Brokerage Firm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4560" y="1599840"/>
            <a:ext cx="9109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, full-service brokerages are best for individuals that do not have the time, level of comfort, or expertise to make their own investment decis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examples of full-service brokerage firms include: Merrill Lynch and Edward J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533520" y="4695840"/>
            <a:ext cx="4448160" cy="102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5715000" y="4800600"/>
            <a:ext cx="2886120" cy="81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Stock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ck represents ownership in a corpo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also represents a proportional share in the assets and profits of the issuing corpo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Discount Brokerage Firm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unt brokerage firms carry out buy and sell orders for their clients but provide little or no investment advic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ees and commissions charged by discount brokerage firms are much lower than those charged by full-service firm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Discount Brokerage Firm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9840" y="1333440"/>
            <a:ext cx="8464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unt brokerage firms are best for individuals that have the ability, level of comfort, and expertise to conduct their own research and make their own investment de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examples of discount brokerage firms include: E-Trade and ShareBuild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143000" y="43830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4267080" y="4275000"/>
            <a:ext cx="3429000" cy="23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Brokerage Firms (Continued)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62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les Schwab and TD Ameritrade are examples of brokerage firms that offer both full and discount services to their cli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2895480" cy="3227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4952880" y="3459240"/>
            <a:ext cx="3197520" cy="25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Brokerage Firms (Continued)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3124080" y="3224160"/>
            <a:ext cx="2362320" cy="33512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"/>
          <p:cNvSpPr/>
          <p:nvPr/>
        </p:nvSpPr>
        <p:spPr>
          <a:xfrm>
            <a:off x="152280" y="144792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delity and Vanguard are two of the largest mutual fund companies that also provide brokerage services to their clie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Stock Performance Indicator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common indicators of stock market performance include th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 Jones Industrial Average (we have already discussed this and taken notes about the Do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&amp;P 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SDAQ (already in your no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S&amp;P 500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stock index that contains 500 large compan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f these companies trade on either the New York Stock Exchange (NYSE) or on the National Association of Securities Dealers Automated Quotation System (NASD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the second most watched US index after the Dow Jones Industrial Average. However, many investors feel that the S&amp;P 500 is a better indicator of the overall stock market because it contains more compan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f the 30 companies listed in the Dow Jones Industrial Average are also listed in the S&amp;P 500 Inde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952880" y="152280"/>
            <a:ext cx="3505320" cy="152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Types of Stock Investment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re going to examine the following types of stoc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ue-Chip St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me St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th St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clical St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nsive St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ocks of some companies can fit into several of these catego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954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Blue-Chip Stock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3760" y="1347840"/>
            <a:ext cx="8007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stocks of the most well established and financially sound compan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30 of the stocks that make up the DJIA are blue-chi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3841920" cy="2386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6553080" y="166680"/>
            <a:ext cx="1571760" cy="1181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6272280" y="3882960"/>
            <a:ext cx="2133360" cy="284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976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Income Stock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the stocks of companies that pay regular and steadily increasing divide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typically conservative stock investments that may not appreciate (or decline) as much in value as other types of sto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xon-Mobil and Proctor &amp; Gamble are examples of income sto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4800600" y="4191120"/>
            <a:ext cx="3276720" cy="245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Growth Stock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" y="11430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the stocks of companies whose earnings are expected to grow at an above avera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th stock companies often do not pay dividends. They instead invest the profits back into the company in the hopes of becoming more profit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gle and Amazon.com are  examples of growth sto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631800" y="4419720"/>
            <a:ext cx="3384720" cy="2252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4910040" y="4511520"/>
            <a:ext cx="3321000" cy="20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Corporation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porations are legal entities owned by individual stockhold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% of all businesses in the United States are classified as corpo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0% of all products sold and services provided in the United States come from corpo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types of corporations are publicly traded and privately h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Cyclical Stock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stocks that appreciate in value quickly when economic growth is strong and fall rapidly when economic growth is decl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oa, Caterpillar, and Ford are examples of cyclical sto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2"/>
          <a:stretch/>
        </p:blipFill>
        <p:spPr>
          <a:xfrm>
            <a:off x="3581280" y="467208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3"/>
          <a:stretch/>
        </p:blipFill>
        <p:spPr>
          <a:xfrm>
            <a:off x="6400800" y="4672080"/>
            <a:ext cx="2293920" cy="171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Defensive Stock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stocks that remain stable during declines in the econom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e-chip and income stocks like Exxon-Mobil and Proctor &amp; Gamble are examples of defensive stoc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Why do Corporations Issue Stock?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aise financial capital that the company can use to expand its business operations, update equipment, and conduct research and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f these efforts are designed to improve the corporation’s profi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Public Corporation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also referred to as publicly traded or publicly held corpo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companies that sell their stock to the general publi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cDonald’s, Wal-Mart, Home Depot, and Coca-Cola are all examples of publicly traded corpo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Private Corporation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also referred to as privately held or closely held corpo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corporations that issue stock but do not sell it to the general publ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ck-fil-A is an example of such a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Why do People Invest in Stocks?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a profit! Historically, stocks have returned around 10%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its are made from stock in two 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eciation in value from the time of purchase until the time of sale (capital gain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Common Stock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Stock Characteristi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hareholder (person that owns the stock) has voting privileges on company mat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hareholder may receive dividends (profits of the corporation that are distributed to shareholders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 greater potential for growth (appreciation in value) with common sto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Black"/>
              </a:rPr>
              <a:t>Preferred Stock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ferred Stock Characterist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areholder is guaranteed to be paid a dividend before common stock shar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areholder has virtually no voting privileges in company mat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eferred share of stock is assigned a dollar value that is printed on the stock certificate (par valu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much less fluctuation in the price of preferred stocks compared to common stoc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ferred stock is a much more conservative investment than common sto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2:42:27Z</dcterms:created>
  <dc:creator>default</dc:creator>
  <dc:description/>
  <dc:language>en-US</dc:language>
  <cp:lastModifiedBy>SysAdmin</cp:lastModifiedBy>
  <dcterms:modified xsi:type="dcterms:W3CDTF">2011-12-05T14:18:30Z</dcterms:modified>
  <cp:revision>116</cp:revision>
  <dc:subject/>
  <dc:title>Stock Investing</dc:title>
</cp:coreProperties>
</file>